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C43B-CE0E-4718-88C4-C3CBE647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C42-6FF7-4A61-B055-2C9D7AD6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810A-2E5F-4A91-A7F8-943153D3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282-50D4-4AD5-A053-37CA2B14E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3268-FF0A-4B56-8455-99D5E566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8A55-84BB-4902-ADE2-2BBA929D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A9F4-0E6A-4427-A9C9-7BDCEE3D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73F4C-FD05-49EB-A072-6E39AAEF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1C60-D64C-4B69-84D9-8745E744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664E-F879-4ECC-A212-1D7FB078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8525-5397-4D03-B3E8-FE53040E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1B0C-8B33-48E2-82B2-F0B34707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9CE4-9553-402B-8DD1-13CEC0D2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909D-7D40-4729-84BE-AC47AF0F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9851-3CE8-473F-90C1-C52D4C4A8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95D1-405E-4036-8120-3427ACF19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A3AC-1A24-418B-A524-189D5CEF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727-E33B-4B8C-8F98-5393A3B0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71F-D6DC-4152-B528-8804935F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F2A7-F2CE-4AF5-AD44-FCE5D3DC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F773-E458-4A8D-BAC7-825611DD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62066-8A61-4F16-9F52-3394E96D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2F585-D406-43BD-B24F-63CEEB64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ED695-5E7F-41E9-9568-87BADA3D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7FFA-26DC-4359-AC1D-4777CB53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CCD1F-C9C6-4AC9-A6F4-B0CB09C0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170F6-0E67-4DD3-B722-1C59FBC1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3E580-88D2-4AB1-8C44-369E5C04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2BF8B-8ED4-496D-8BFF-CC848606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4E8E-B92C-4B87-A8E2-34209EE0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05499-7AA6-4847-98A3-3224C40C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78A4-69F8-4C60-AD6E-00F67E3F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E0C9C-123B-4699-9386-891AF2CA6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B48-F280-4CFB-A2C2-3F4A856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3CF0-07B8-497F-948B-DCB69B54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258-C41D-47D8-9219-3AA4BD6C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9B262-5ACE-4E97-B65C-9683DE9EB5E7}" type="datetime">
              <a:rPr b="0" lang="en-US" sz="1100" spc="-1" strike="noStrike">
                <a:solidFill>
                  <a:srgbClr val="8d9ab3"/>
                </a:solidFill>
                <a:latin typeface="Century Gothic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5045D-74A0-477B-A4C3-C4A31185DCF5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D9A556-D01A-4A81-9D7C-40ACD9CEECB8}" type="datetime">
              <a:rPr b="0" lang="en-US" sz="1100" spc="-1" strike="noStrike">
                <a:solidFill>
                  <a:srgbClr val="8d9ab3"/>
                </a:solidFill>
                <a:latin typeface="Century Gothic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275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CFDB2A-EB67-4869-8107-B3BC13676E5B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5363F-20DB-4973-A5E9-7A4A40EFA117}" type="datetime">
              <a:rPr b="0" lang="en-US" sz="1100" spc="-1" strike="noStrike">
                <a:solidFill>
                  <a:srgbClr val="8d9ab3"/>
                </a:solidFill>
                <a:latin typeface="Century Gothic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248BD-80C2-410C-B46E-365AF523E07C}" type="slidenum">
              <a:rPr b="0" lang="en-US" sz="1400" spc="-1" strike="noStrike">
                <a:solidFill>
                  <a:srgbClr val="8d9ab3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6000" y="739800"/>
            <a:ext cx="851364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8d9ab3"/>
                </a:solidFill>
                <a:latin typeface="Century Gothic"/>
              </a:rPr>
              <a:t>Agreement</a:t>
            </a:r>
            <a:r>
              <a:rPr b="1" lang="en-US" sz="10000" spc="-1" strike="noStrike">
                <a:solidFill>
                  <a:srgbClr val="8d9ab3"/>
                </a:solidFill>
                <a:latin typeface="Century Gothic"/>
              </a:rPr>
              <a:t>	</a:t>
            </a:r>
            <a:endParaRPr b="0" lang="en-US" sz="100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06000" y="3504960"/>
            <a:ext cx="468324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af03"/>
                </a:solidFill>
                <a:latin typeface="Century Gothic"/>
              </a:rPr>
              <a:t>American Li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Subjects of linking verb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linking verb must agree with its subject, regardless of the number of the predicate nominative-the noun or pronoun that renames, identifies, or explains the subjec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oon craters are one sign of meteor storm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One sign of meteor storms is moon craters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ollective Nouns 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collective noun takes a singular verb when the group it names acts as a single uni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e class is excited to be learning about the solar system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collective noun takes a plural verb when the group it names act as individuals with different points of view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e class are unable to decide which planets to discuss in their reports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Nouns that look like plural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ouns that are plural in form, but singular in meaning take singular verb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ome of these nouns are singular names for branches of knowledge: acoustics, civics, economics etc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hysics is a challenging subject. (S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y lost eyeglasses were behind the sofa. (P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Indefinite Pronoun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ngular indefinite pronouns take singular verb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veryone in the room needs to take off her coat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lural indefinite pronouns take plural verb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Both of these planets were formed at about the same time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r those indefinite pronouns that can be either singular or plural, agreement depends on the number of the antecedent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Indefinite pronouns con’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e pronouns all, any, more, most, none, and some usually take a singular verb if the antecedent is singular and a plural verb if the antecedent is plural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ost of the cake is gon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ost of the desserts are gon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Title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title is singular and therefore takes a singular verb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Century Gothic"/>
              </a:rPr>
              <a:t>Space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 is a novel by James A. Michene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ffffff"/>
                </a:solidFill>
                <a:uFillTx/>
                <a:latin typeface="Century Gothic"/>
              </a:rPr>
              <a:t>Of Mice and Men 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s a book by John Steinbeck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mounts and Measurement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noun expressing an amount or measurement is usually singular and requires a singular verb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ngular when expressing single units (ex: one sum of money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welve dollars is the price of the ticket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ty miles was a long distance to travel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alf of the invitations were mailed today. (P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Subject and Verb Agreemen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ngular and Plural Subject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singular subject must have a singular verb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plural subject must have a plural verb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planet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travel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through space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entury Gothic"/>
              </a:rPr>
              <a:t>planet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Jupiter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ha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sixteen known moons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af03"/>
                </a:solidFill>
                <a:latin typeface="Century Gothic"/>
              </a:rPr>
              <a:t>Intervening Phrases and Clauses</a:t>
            </a:r>
            <a:endParaRPr b="0" lang="en-US" sz="38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verb must agree with its subject even if a phrase or clause comes  between the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Sam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 with several of his friends,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observes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the sky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Your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theor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, as well as his ideas,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lacks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support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member: Plural with plural, singular with singul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Relative pronouns as subject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member relative pronouns?? (who, which, that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When who, which, or that acts as a subject of a subordinate clause, its verb is singular or plural, depending on the number of its antecedent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e antecedent of a relative pronoun determines its agreement with a verb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X: Sam is the only one of the trainees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entury Gothic"/>
              </a:rPr>
              <a:t>who </a:t>
            </a:r>
            <a:r>
              <a:rPr b="0" i="1" lang="en-US" sz="2200" spc="-1" strike="noStrike">
                <a:solidFill>
                  <a:srgbClr val="ffffff"/>
                </a:solidFill>
                <a:latin typeface="Century Gothic"/>
              </a:rPr>
              <a:t>has applied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ompound Subjects 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compound subject joined by and is generally plural and must have a plural verb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amp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nd and rain exist on Earth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nds and rainstorms exist on Earth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inds and rain exist on Earth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ception to this rule-when the parts of the compound subject equal one thing and when the word each or every is used before a compound subject.  Then use a singular verb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The exception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acaroni and cheese is an easy dish to make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ach man and woman was waving a flag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ompound Subject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wo or more singular subjects joined by or or nor must have a singular verb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amp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ither Jupiter or Saturn makes a fascinating topic of study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wo or more plural subjects joined by or or nor must have a plural verb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xamp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pace probes or space shuttles provide information about space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ompound subjects </a:t>
            </a: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	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If one or more singular subjects are joined to one or more plural subjects by or or nor, the subject closest to the verb determines agreeme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ither atmosphere nor clouds exist on Mercury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either clouds nor atmosphere exists on Mercury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onfusing Subjects 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ard to find subjects- When a subject comes after its verb, the verb must still agree with the subject in numbe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 sentence in which the subject comes after its verb is said to be inverted-you can check the subject-verb agreement by mentally putting the sentence in the normal subject-verb orde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Which of the science reports has she read?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(She has read which of the science reports?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3T14:02:02Z</dcterms:created>
  <dc:creator>ndadmin</dc:creator>
  <dc:description/>
  <dc:language>en-US</dc:language>
  <cp:lastModifiedBy>ndadmin</cp:lastModifiedBy>
  <dcterms:modified xsi:type="dcterms:W3CDTF">2009-02-13T16:24:05Z</dcterms:modified>
  <cp:revision>6</cp:revision>
  <dc:subject/>
  <dc:title>Agreement </dc:title>
</cp:coreProperties>
</file>